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80A-F4B4-48D0-A342-C35A93C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785-4BE7-4438-BF16-C9EAF67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C46-4061-4491-8772-B240D28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236-14EB-45E5-A3EF-9767300E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079-49BD-454E-A05E-8C8DFB2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E56-DD68-4218-927B-64ACF6D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D1E-1142-47C1-8994-08542EC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41C-683C-4873-9260-CF1294C0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5DA-DCCE-4332-B8AD-64EF55E1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D90-CBFD-465F-BA69-CCF092D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2C6-423E-4307-B7B7-A212E5E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C7F-DB77-4BEF-95A8-C7B4C31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F3F-7A89-4CCA-872A-877A5B5E3D6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8:44Z</dcterms:created>
  <dc:creator>jiunko</dc:creator>
  <dc:description/>
  <dc:language>en-US</dc:language>
  <cp:lastModifiedBy>jiunko</cp:lastModifiedBy>
  <dcterms:modified xsi:type="dcterms:W3CDTF">2012-01-13T04:29:11Z</dcterms:modified>
  <cp:revision>1</cp:revision>
  <dc:subject/>
  <dc:title>PowerPoint 簡報</dc:title>
</cp:coreProperties>
</file>