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C664-2C88-4302-8258-D44556F5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EC7-AC5B-447E-A3A9-D13F28C4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49F2-AD5C-4CC7-9396-E8FCA2BB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A351-9E9C-4493-A7CF-46DEE513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2EB1-C1DD-4F8E-BB3A-40CAE0A2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C05-A540-47B2-AB13-F2843CA2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5B9A-3120-4001-9894-97445420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1B58-E9EA-42DC-AFD8-4210686F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5E3-5BF0-4638-8EBA-1D989933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FB0-B68B-434F-B570-6A559122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930-6638-4D84-BC01-88588947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753-8422-4FDE-971E-92CAEC2C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BE44-D5F2-4942-B9FA-8F5E9C02B4B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圖片 1" descr="投影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圖片 1" descr="投影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圖片 1" descr="投影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圖片 1" descr="投影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圖片 1" descr="投影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圖片 1" descr="投影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圖片 1" descr="投影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圖片 1" descr="投影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04:27:59Z</dcterms:created>
  <dc:creator>jiunko</dc:creator>
  <dc:description/>
  <dc:language>en-US</dc:language>
  <cp:lastModifiedBy>jiunko</cp:lastModifiedBy>
  <dcterms:modified xsi:type="dcterms:W3CDTF">2012-01-13T04:28:23Z</dcterms:modified>
  <cp:revision>1</cp:revision>
  <dc:subject/>
  <dc:title>PowerPoint 簡報</dc:title>
</cp:coreProperties>
</file>