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8E6B-14CC-419B-8BD2-0E23E48D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A7F-648A-4525-8E7B-190A6892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DEC6-651F-460D-8AAB-F9956DE0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C823-01E7-4CC0-90E2-9256F871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FD81-0B55-4363-BB53-3F32EA7E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F748-0D3F-4DDC-B60A-839B4BA2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8004-DDAD-4BE9-84EE-F74617CC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0130-ADF1-43CE-A4FE-617CCF50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D34F-E2A6-481E-A09F-CF00D058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90BA-5AB9-4187-8018-B1C27B01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64EB-3779-4713-BDF5-5BACD71E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E6B-8424-4839-81D4-DF0CFFFA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DE1B-CF01-4AAA-A180-D24FAF25F3B3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圖片 1" descr="投影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圖片 1" descr="投影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圖片 1" descr="投影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圖片 1" descr="投影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圖片 1" descr="投影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圖片 1" descr="投影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圖片 1" descr="投影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圖片 1" descr="投影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04:27:09Z</dcterms:created>
  <dc:creator>jiunko</dc:creator>
  <dc:description/>
  <dc:language>en-US</dc:language>
  <cp:lastModifiedBy>jiunko</cp:lastModifiedBy>
  <dcterms:modified xsi:type="dcterms:W3CDTF">2012-01-13T04:27:38Z</dcterms:modified>
  <cp:revision>1</cp:revision>
  <dc:subject/>
  <dc:title>PowerPoint 簡報</dc:title>
</cp:coreProperties>
</file>