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526-3541-4422-83E4-4D8A05D3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5E6-6313-46B1-9A9E-A6A97167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BC7-EEA4-494A-8FDE-4D5691C2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FDD-33AE-4710-A45C-5BF8D7F2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1E6-0FBC-4FCC-B598-FC9CBFDC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286-7AA8-4B1D-A41E-3C902DD3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72A-AB2A-48AF-8707-490A244D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958-DB68-4ABB-88FF-6D2E3F75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CC4-4A74-49BB-AEC4-EFDD8FC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147-7D3C-4BAB-A150-AE81AB7E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4B6-BA96-46FA-B3FA-2B7A56C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823-7708-4814-9DCB-58804275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B263-6D90-446E-A60E-2CD6A5AFECA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6:22Z</dcterms:created>
  <dc:creator>jiunko</dc:creator>
  <dc:description/>
  <dc:language>en-US</dc:language>
  <cp:lastModifiedBy>jiunko</cp:lastModifiedBy>
  <dcterms:modified xsi:type="dcterms:W3CDTF">2012-01-13T04:26:46Z</dcterms:modified>
  <cp:revision>1</cp:revision>
  <dc:subject/>
  <dc:title>PowerPoint 簡報</dc:title>
</cp:coreProperties>
</file>