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9FB-2640-47ED-BD8E-62B8B5D9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9CA-F9F9-41F6-890F-EE92782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773-F95B-4C6A-A472-07220F49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EB6-B98D-42EB-85D4-871C9EB2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8D4-A92D-4161-BBBC-E9064495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B14-5762-4AD0-A573-20EA27A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288-DB2B-444E-9F8D-A8360426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FF2-C418-48BF-842B-6C06270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2E0-03DF-49D2-9277-37F2DEB2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4A5-5F81-4B4E-8E45-4D7F1C1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227-1CB4-45D8-AD91-5352E20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8A0-769E-46DF-AA38-7C13666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0A96-414C-4381-9CD2-7D912B50105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6:22Z</dcterms:created>
  <dc:creator>jiunko</dc:creator>
  <dc:description/>
  <dc:language>en-US</dc:language>
  <cp:lastModifiedBy>jiunko</cp:lastModifiedBy>
  <dcterms:modified xsi:type="dcterms:W3CDTF">2012-01-13T04:26:46Z</dcterms:modified>
  <cp:revision>1</cp:revision>
  <dc:subject/>
  <dc:title>PowerPoint 簡報</dc:title>
</cp:coreProperties>
</file>