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977-380A-4A2A-B6BF-B459E86F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B8E-8978-4861-8E3F-D88BA8FA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D04-6D4A-4D93-95A0-CD5D30D5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91A-FAA7-42B1-B8E8-2A7266A2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652-EC86-45F4-B0CE-0C2E1BD3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A0C-7F4D-485D-927B-374C7331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308-28AC-4164-9048-E7AE704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C35-F397-4D30-8900-F48AE4B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331-2641-43A4-9DC7-7EB0F5E2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BA9-8F53-4DD2-9653-AD095295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8F7-ED3B-4EB7-A5C2-335AB47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DEF-8D64-48C1-A519-9988379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0F89-54CD-449F-B35E-EB7272ABBD0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5:37Z</dcterms:created>
  <dc:creator>jiunko</dc:creator>
  <dc:description/>
  <dc:language>en-US</dc:language>
  <cp:lastModifiedBy>jiunko</cp:lastModifiedBy>
  <dcterms:modified xsi:type="dcterms:W3CDTF">2012-01-13T04:26:04Z</dcterms:modified>
  <cp:revision>1</cp:revision>
  <dc:subject/>
  <dc:title>PowerPoint 簡報</dc:title>
</cp:coreProperties>
</file>