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B6A7-7FC8-4137-BD65-E78B5684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007E-5686-429C-866D-D859FACE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99F3-A43B-414E-AE33-2A3354AB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B91A-2787-4948-A15E-ACB262FF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04BC-736D-4B6A-A58C-28BCFC37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4BE-4C85-4A09-B2CC-13BCE914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9E34-E81E-4411-8933-9BFF884A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96F4-7CEB-416B-933C-AA781389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1CB-2AB7-47C6-953A-33DEE911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E2F7-D82E-4C89-AFE0-ABBD5C5A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752-FACB-4E53-9160-B71B4155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6988-D2E5-4396-BA20-B2D54C44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2352-3E08-4EA0-9ED4-E8E84B2F8247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圖片 1" descr="投影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圖片 1" descr="投影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圖片 1" descr="投影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圖片 1" descr="投影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圖片 1" descr="投影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圖片 1" descr="投影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圖片 1" descr="投影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圖片 1" descr="投影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04:24:44Z</dcterms:created>
  <dc:creator>jiunko</dc:creator>
  <dc:description/>
  <dc:language>en-US</dc:language>
  <cp:lastModifiedBy>jiunko</cp:lastModifiedBy>
  <dcterms:modified xsi:type="dcterms:W3CDTF">2012-01-13T04:25:15Z</dcterms:modified>
  <cp:revision>1</cp:revision>
  <dc:subject/>
  <dc:title>PowerPoint 簡報</dc:title>
</cp:coreProperties>
</file>