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C12-4E8D-47ED-80E2-546293F7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C48-F7F1-4AA0-A797-CAEC1D2D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3AA-18F4-4AB5-95C0-5453058D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046-B427-4673-BEFA-E82D8B2A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08C-8387-4B50-B4F4-DFB124C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4AE-4BFA-4E6F-ACBF-0887031B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125-CF87-45C5-9B83-D57F8094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7AB-A331-4EF6-9AC6-DECA3EE9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FD8-A1DD-4BEF-9538-328EF5D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27B-4250-42D9-9E6A-6F14196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D55-91B9-4073-BDBB-717A35A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D4C-429D-4601-AF1B-42FB69EA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EC5E-C0D1-4089-8C0D-57FA19AC7CD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3:56Z</dcterms:created>
  <dc:creator>jiunko</dc:creator>
  <dc:description/>
  <dc:language>en-US</dc:language>
  <cp:lastModifiedBy>jiunko</cp:lastModifiedBy>
  <dcterms:modified xsi:type="dcterms:W3CDTF">2012-01-13T04:24:23Z</dcterms:modified>
  <cp:revision>1</cp:revision>
  <dc:subject/>
  <dc:title>PowerPoint 簡報</dc:title>
</cp:coreProperties>
</file>