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4EA2-E5DF-40A6-963B-41EBE0F34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9EDD-6C42-4F18-9FB3-ADC062353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6F95-185B-4E67-A897-B6DC85BC5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1574-C9C9-46F6-B402-9F8FCBE5F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5A36-9193-40ED-9D92-0148F7FA9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2EC0-3453-4E06-9F51-01C68525C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EB98-CBC5-49DB-818B-6F0FFB042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BAC3-3982-4AFA-934B-0BCA4640B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B53B-B430-4E35-82A5-45AE85932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7C2C-9BA6-46AB-B346-18D507E0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C45A-A141-4871-8546-02965D1C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F40D-1F91-4DA3-8DC9-5D12A964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68031-C949-4B53-A2BD-540B6B4DEFA1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圖片 1" descr="投影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圖片 1" descr="投影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圖片 1" descr="投影片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圖片 1" descr="投影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圖片 1" descr="投影片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圖片 1" descr="投影片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圖片 1" descr="投影片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圖片 1" descr="投影片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3T04:23:08Z</dcterms:created>
  <dc:creator>jiunko</dc:creator>
  <dc:description/>
  <dc:language>en-US</dc:language>
  <cp:lastModifiedBy>jiunko</cp:lastModifiedBy>
  <dcterms:modified xsi:type="dcterms:W3CDTF">2012-01-13T04:23:29Z</dcterms:modified>
  <cp:revision>1</cp:revision>
  <dc:subject/>
  <dc:title>PowerPoint 簡報</dc:title>
</cp:coreProperties>
</file>