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C94-320D-4DD3-AD8E-6C5B6E7D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E5A-363E-4021-A93E-FFABEEDC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16F-9261-4ACE-9AC2-6D565DF9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3D9-6DCE-43CE-869F-0EDD50FA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5EB-4233-4C6E-B35B-223E0610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C535-0858-4769-B341-2BB8BC5D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CDC-9E2C-4FB7-8656-A9D1F1FE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8CB-49A4-4AF0-8C33-004E6110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3ECD-7447-4530-A6BA-F9F9C790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6BA-ED5C-47F8-A790-72165139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A6B-31F9-455B-B7C4-7A4B76B0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570-8137-4A67-8CDA-1447D061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1A71-5A64-43C9-9D8F-2954537FE93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1" descr="投影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圖片 1" descr="投影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圖片 1" descr="投影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圖片 1" descr="投影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圖片 1" descr="投影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1" descr="投影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1" descr="投影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1" descr="投影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4:22:08Z</dcterms:created>
  <dc:creator>jiunko</dc:creator>
  <dc:description/>
  <dc:language>en-US</dc:language>
  <cp:lastModifiedBy>jiunko</cp:lastModifiedBy>
  <dcterms:modified xsi:type="dcterms:W3CDTF">2012-01-13T04:22:40Z</dcterms:modified>
  <cp:revision>1</cp:revision>
  <dc:subject/>
  <dc:title>PowerPoint 簡報</dc:title>
</cp:coreProperties>
</file>