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272-0DCF-422E-941C-CBEDC209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950-2C48-4BC1-AB12-CB2F8C08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173-ECDC-442E-B9FC-B1856881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98F-C214-4C1D-8C97-F823FC06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10F-0F13-468C-AF30-43AD1463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775-9422-408A-8AA4-1C6493E8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26A-8F01-4202-9DAA-41139511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6B8-B83A-4F32-946C-F5096B04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848-E5DA-4005-96D0-763E2DB2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B676-58F3-4D63-9CA0-54C52494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5AED-7263-41FA-BBD9-714337F6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861-FAA0-4D6B-B9ED-BA315153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1337-A949-46EC-A28F-762DEA38C03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1" descr="投影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投影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圖片 1" descr="投影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圖片 1" descr="投影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圖片 1" descr="投影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1" descr="投影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1" descr="投影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1" descr="投影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4:21:06Z</dcterms:created>
  <dc:creator>jiunko</dc:creator>
  <dc:description/>
  <dc:language>en-US</dc:language>
  <cp:lastModifiedBy>jiunko</cp:lastModifiedBy>
  <dcterms:modified xsi:type="dcterms:W3CDTF">2012-01-13T04:21:35Z</dcterms:modified>
  <cp:revision>1</cp:revision>
  <dc:subject/>
  <dc:title>PowerPoint 簡報</dc:title>
</cp:coreProperties>
</file>