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320-4E7B-4DEC-819D-8B5A66ED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D76-14A7-4186-9581-DDC32888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6D9-1BCE-49F4-87D4-636CEC91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935-BEC1-46EC-98B6-9EB0CE4F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5FC-AE87-4A3C-A944-5368003E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21B-B139-41AE-B275-2DCDDB36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F91-2040-49C1-BE73-B25D1618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30F-54E0-4C11-93A1-37FBB307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D53-5B6C-4AD3-BC32-5CE673ED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283-16A7-4FD8-9E90-2622A2F8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AE35-9B68-4A4C-828C-4021AEE4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3E4-861D-486C-90E2-6DA70A9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15F1-CE5C-4FCE-BB46-3962DDA0AE5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投影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投影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投影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投影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投影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投影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投影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投影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4:19:46Z</dcterms:created>
  <dc:creator>jiunko</dc:creator>
  <dc:description/>
  <dc:language>en-US</dc:language>
  <cp:lastModifiedBy>jiunko</cp:lastModifiedBy>
  <dcterms:modified xsi:type="dcterms:W3CDTF">2012-01-13T04:20:38Z</dcterms:modified>
  <cp:revision>1</cp:revision>
  <dc:subject/>
  <dc:title>PowerPoint 簡報</dc:title>
</cp:coreProperties>
</file>