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1F7-1A65-405F-8312-E014A16B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E77-E3B8-495A-AF37-F27287B1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B77-A229-43F6-A181-2A19A356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D88-96B5-4E70-A602-4A4DC83C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0FE-B306-4C51-BC3C-3FCA3A89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3C7-6DC5-4BB5-9D4C-D98DD32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0A5-5F48-4DE4-8694-CBD2FB52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2BE-C35C-4DE0-B6EC-AD62D1FE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03D-20B7-49B6-98F6-FBCB0F28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05C-BF2E-43BC-8E1C-A8A4F24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A5E-41CD-4BF0-96B3-FAD5546A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F68-C09A-468C-A7A5-FEF8E62F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96F-6F4C-4159-8E42-6FCDD9474F4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投影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投影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投影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投影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投影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投影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投影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投影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4:06:27Z</dcterms:created>
  <dc:creator>jiunko</dc:creator>
  <dc:description/>
  <dc:language>en-US</dc:language>
  <cp:lastModifiedBy>jiunko</cp:lastModifiedBy>
  <dcterms:modified xsi:type="dcterms:W3CDTF">2012-01-13T04:07:28Z</dcterms:modified>
  <cp:revision>1</cp:revision>
  <dc:subject/>
  <dc:title>PowerPoint 簡報</dc:title>
</cp:coreProperties>
</file>